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015F-336C-4607-B959-C409D29FA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446E-6D94-410D-BE28-D034FAE5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9498-58A2-445F-8E36-9AB4397FA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FC87-6585-492F-929B-2F3370E3F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5390-8CBD-4A00-8A06-8A934DF0A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F04A-120E-4D63-9341-6F9E03FC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BA76-FDB3-4228-BCBE-3FA2A7C1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4E82-EFA6-4F83-81DD-C33F421B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667B-E7A0-4E90-8C0B-30E80D24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4E23-3943-4D2A-A9F2-6A44193C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773D-348D-431A-922B-6CB45E71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5DE8-1C28-401A-8373-004323BB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F078-4CDB-4BDC-8BDA-FF939BA6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9202-6E4F-41AD-BC6F-E5629B9E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DA5C-20A5-4611-B247-ECC83312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7EE7-8530-4A8A-B47A-829976539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AF5A-24E2-48A9-8F3C-0A751722E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1C57-56C5-4D23-9E4A-0CD9DFAE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785B-8543-4126-B15B-4A8ACC8B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7CCA-0DAA-4CD8-A481-D2BA4D89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AB7D-0ADB-48AF-8BF5-B3BDEE7B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AAC4-2383-4029-8215-FBA19604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8EB4-F389-49C3-839E-D97147D7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FC80-1EC2-4A96-B0AE-B3BEF73B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3A58-9D11-4EF0-96AD-530AB321CDF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B315-7BF1-4B43-AD4F-11CD9695EDF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80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Unicode MS"/>
              </a:rPr>
              <a:t>Развој стоматологије на тлу Србије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2" descr="main_pic_01"/>
          <p:cNvPicPr/>
          <p:nvPr/>
        </p:nvPicPr>
        <p:blipFill>
          <a:blip r:embed="rId1"/>
          <a:stretch/>
        </p:blipFill>
        <p:spPr>
          <a:xfrm>
            <a:off x="5486400" y="3581280"/>
            <a:ext cx="3352680" cy="2895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"/>
          <p:cNvPicPr/>
          <p:nvPr/>
        </p:nvPicPr>
        <p:blipFill>
          <a:blip r:embed="rId2"/>
          <a:stretch/>
        </p:blipFill>
        <p:spPr>
          <a:xfrm>
            <a:off x="1219320" y="24382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Unicode MS"/>
              </a:rPr>
              <a:t>Почеци зубне медицине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 Unicode MS"/>
              </a:rPr>
              <a:t>Можемо само да претпостављамо да  је слична ситуација била у средњевековној Србији. Једина зубна интервенција била је екстракција зуба, коју су вршили бербери, ковачи и приучени емпирици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7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 Unicode MS"/>
              </a:rPr>
              <a:t>Архивски документи показују да су српски владари и моћни великаши имали своје личне лекаре, који су, позивани из приморских градова, остајали по потреби, дуже или краће време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7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Unicode MS"/>
              </a:rPr>
              <a:t>Поцеци зубне медицине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 Unicode MS"/>
              </a:rPr>
              <a:t>Посебне околности су биле у Котору који у периоду од 1186. до 1371. био у саставу српске државе и имао значајну улогу у њеном културном и политичком животу. У Котору је постојала организована здравствена служба, коју су чинили лекар физикус, хирург и берберин. У доба цара Душана 1332. помиње се хирург Марин из Бара, који је обављао хируршке интервенције; положај хирурга био је изнад статуса обичног гра</a:t>
            </a: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ђ</a:t>
            </a:r>
            <a:r>
              <a:rPr b="0" lang="en-GB" sz="2600" spc="-1" strike="noStrike">
                <a:solidFill>
                  <a:srgbClr val="ffffff"/>
                </a:solidFill>
                <a:latin typeface="Arial Unicode MS"/>
              </a:rPr>
              <a:t>анина, али знатно испод лекара физикуса. Берберин - “барбериус”, је поред ва</a:t>
            </a: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ђ</a:t>
            </a:r>
            <a:r>
              <a:rPr b="0" lang="en-GB" sz="2600" spc="-1" strike="noStrike">
                <a:solidFill>
                  <a:srgbClr val="ffffff"/>
                </a:solidFill>
                <a:latin typeface="Arial Unicode MS"/>
              </a:rPr>
              <a:t>ења  зуба, лечења акутних и хроничних рана и венесекције, био члан комисије за експертизу тела умрлих особа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Unicode MS"/>
              </a:rPr>
              <a:t>Почеци зубне медицине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316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Најезда Турака доводи до замирања организоване здравствене службе. Лечењем се баве самоуки видари, звани “хећими” и травари, који справљају мелеме, репонирају поломљене кости и луксиране зглобове. Бербери се баве в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ђ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ењем зуба и пуштањем крви. Помињу се и “калоијатри”- добри лекари, најчешће Грци и Цинцари, емпирици, вешти у свом посл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 Unicode MS"/>
              </a:rPr>
              <a:t>Зубна медицина 19.век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Током петовековне турске власти у Србији нема учених лекара. Тек после 1830. године и султановог хатишерифа, којим је Србији признато право унутрашње самоуправе, у Србију долази девет страних лекара. Оснивају се први карантини и прве скромне болниц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Unicode MS"/>
              </a:rPr>
              <a:t>Зубна медицина 19.век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Први зубни лекар појавиће се тек 1868.године. То је Илија Ранимир (1821-1901) родом из Вршца, који је зубно лекарство завршио у Грацу у 26.години. Велики путник, нарочито за доба у коме је живео, обављао је праксу у многим градовима Европе и Азије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али је најдуже остао у Београду. Године 1872. И. Ранимир учествује у оснивању Српског лекарског друштва, најстаријег удружења лекара на овим просторима, заједно са још  петнаест еминентних војних и цивилних лекара. Активно учествује у раду Друштва, као редован, а потом почасни члан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Unicode MS"/>
              </a:rPr>
              <a:t>Зубна медицина 19.век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Године 1863. основана је у Београду Велика школа. Професор на катедри за судску медицину Аћим Медовић, уочио је да је стање у области зубне медицине у Србији изузетно лоше, првенствено због недостатка стручног кадра, тј. непостојања зубних лекара. Зато је 1867.године покренуо “Течај за изучене хирурге бербере” који су после завршене обуке и полагања испита добијали дозволу за рад. Своја предавања је објавио у књизи “</a:t>
            </a:r>
            <a:r>
              <a:rPr b="0" i="1" lang="en-GB" sz="2400" spc="-1" strike="noStrike">
                <a:solidFill>
                  <a:srgbClr val="ffffff"/>
                </a:solidFill>
                <a:latin typeface="Arial Unicode MS"/>
              </a:rPr>
              <a:t>Мале хирургијске услуге и прва помоћ у повредама тела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”. То је прва стручна књига из мале хирургије и зубног лекарства у нас.Треће поглавље посвећено је зубима који  “</a:t>
            </a:r>
            <a:r>
              <a:rPr b="0" i="1" lang="en-GB" sz="2400" spc="-1" strike="noStrike">
                <a:solidFill>
                  <a:srgbClr val="ffffff"/>
                </a:solidFill>
                <a:latin typeface="Arial Unicode MS"/>
              </a:rPr>
              <a:t>подлежу болестима, па су вилици, језику и околини а и осталом телу на досаду, кад мању, кад већу, а гдешто онолику да се као ислушни и досадни морају уклонити”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Зубна медицина 19.век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Описи обољења зуба дати су изузетно тачно, док се код описивања узрока болести и лечења његови ставови не могу у потпуности прихватити. Објашњава лечење канала корена зуба и уклањање зубног нерва, али наглашава да је то искључиво домен рада зубног лекара. Компетенција хирурга берберина је ва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ђ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ење зуба; детаљно описује инструменте неопходне за ову интервенцију: кључеви прави и криви, полуге за ва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ђ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ење корено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Медовић користи старе архаичне термине, који су одговарали времену у коме су настали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вукотићи – очњаци, зубна стреш – зубни каменац, пољачина – скорбут, </a:t>
            </a:r>
            <a:r>
              <a:rPr b="0" i="1" lang="en-GB" sz="2400" spc="-1" strike="noStrike">
                <a:solidFill>
                  <a:srgbClr val="ffffff"/>
                </a:solidFill>
                <a:latin typeface="Arial Unicode MS"/>
              </a:rPr>
              <a:t>“опиљити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Arial Unicode MS"/>
              </a:rPr>
              <a:t>кариозност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” и слич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Unicode MS"/>
              </a:rPr>
              <a:t>Стоматологија 20.век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Почетком 20.века Србија добија прве праве зубне лекаре, докторе медицине са завршеном специјализацијом из  болести уста и зуба. Најпознатији ме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ђ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у њима су Милош Поповић, Атанасије Пуљо, Миливоје Петровић, које уз Илију Ранимира сматрамо пионирима српске стоматологије. Ме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ђ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у њима истакнуто место заузима А.Пуљ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Unicode MS"/>
              </a:rPr>
              <a:t>Стоматологија 20.век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6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Октобра 1912. године почиње први балкански рат (српско-турски рат) а у Београд прелази А. Пуљо, зубни лекар из Земуна и добровољно ставља на располагање српском санитету. У Београду збрињава рањенике са преломима вилица на свој јединствен начин: истовремено са обрадом меких ткива које врши хирург, зубни лекар репонира поломљене виличне фрагменте, удлагама их спаја и фиксира преко преосталих зуба. На ову оригиналну идеју о удруженом раду хирурга и стоматолога и стварању нове специјалности, хирургије вилица и лица, А.Пуљо је дошао први, четири године пре званичног почетка максилофацијалне хирургије, која се као нова хируршка дисциплина појавила крајем Првог светског рата. Зато га с правом сматрамо пиониром на пољу максилофацијалне хирургиј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6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Unicode MS"/>
              </a:rPr>
              <a:t>Стоматологија 20.век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Године 1923. при Општој државној болници у Београду основано је Зубно одељење. Њиме руководи А.Пуљо, који две године касније, посебним правилником прима прве докторе медицине на специјализацију из болести уста и зуба. Иако је ова специјализација предв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ђ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ена Санитетским законом из 1919. године, није постојала у тадашњој Југославији, све до  1925.годин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Каснији Санитетски закон донет 1930.године прописује да назив специјалисте за болести уста и зуба добијају само лекари целокупног лекарства који су обавили одговарајући специјалистички стаж у трајању од најмање 18 месеци на одговарајућој клиници у земљи или у иностранств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 Unicode MS"/>
              </a:rPr>
              <a:t>Зубна медицин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6320" y="16761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Стоматологија коју ми данас познајемо није настала одједном, нити је носила ово име. Зачета у далекој прошлости, као </a:t>
            </a:r>
            <a:r>
              <a:rPr b="1" i="1" lang="en-GB" sz="2800" spc="-1" strike="noStrike">
                <a:solidFill>
                  <a:srgbClr val="ffffff"/>
                </a:solidFill>
                <a:latin typeface="Arial Unicode MS"/>
              </a:rPr>
              <a:t>зубна медицина</a:t>
            </a: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, развијала се хиљадама година и била изложена многим утицајима. Социјалне, политичке и верске прилике давале су јој подстицај, али много чешће спутавале. Морамо знати да је развој стоматологије у блиској  вези са развојем медицине и да се само у склопу те узајамне повезаности може разумети њена прошлос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 Unicode MS"/>
              </a:rPr>
              <a:t>Стоматологија 20.век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9144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Године изме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ђ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у два светска рата обележава изузетна стручна активност српских лекара стоматолога. Иако је М.Поповић  први, далеке 1907.године, излагао свој рад на конгресу стоматолога у Паризу, а касније други наши стоматолози, званично су српски зубни лекари приступили Ме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ђ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ународном удружењу стоматолога (</a:t>
            </a:r>
            <a:r>
              <a:rPr b="0" i="1" lang="en-GB" sz="3200" spc="-1" strike="noStrike">
                <a:solidFill>
                  <a:srgbClr val="ffffff"/>
                </a:solidFill>
                <a:latin typeface="Arial Unicode MS"/>
              </a:rPr>
              <a:t>Association Stomatologique Internationale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) 1930.годин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Unicode MS"/>
              </a:rPr>
              <a:t>Стоматологија 20.век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9144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Обавезали су се да остваре следеће циљев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- зубно лекарство је саставни део опште медицине, медицинска специјално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- обављање стоматолошке праксе дозвољено само стручно образованим лекари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- стоматологија мора да буде обавезан предмет са сталном катедр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- неопходно је оснивање стоматолошких клиника и стоматолошких факулт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Unicode MS"/>
              </a:rPr>
              <a:t>Стоматологија 20.век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7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По</a:t>
            </a: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ч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етком Српско-турског рата 1912. године основано је Одељење за преломе вилиц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7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при Петој резервној болници у Београду, а на</a:t>
            </a: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ч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елник је био др Атанасије Пуљо, зубни лекар из</a:t>
            </a: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Земуна. Ту ради и за време Српско-бугарског рата 1913. године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7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Атанасије Пуљо први код нас по</a:t>
            </a: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ч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иње управо у Балканским ратовима да се залаже за</a:t>
            </a: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збрињавање максилофацијалних повреда стру</a:t>
            </a: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ч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ном специјалисти</a:t>
            </a: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ч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ком обрадом, успешно санирају</a:t>
            </a: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ћ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и</a:t>
            </a: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болеснике са тешким фрактурам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7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Да бисмо проценили његов рад и допринос на стру</a:t>
            </a: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ч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ном пољу, а пре свега из области</a:t>
            </a: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трауматологије предела лица и вилица, посебно ратних повреда, потребно је иста</a:t>
            </a: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ћ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и његов пионирски</a:t>
            </a: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подухват у специјалисти</a:t>
            </a: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ч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ком ле</a:t>
            </a: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ч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ењу ових траум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7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Unicode MS"/>
              </a:rPr>
              <a:t>Стоматологија 20.век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 Unicode MS"/>
              </a:rPr>
              <a:t>У току ових ратова на одељењима за преломе вилица у Београду и Нишу санирано је 345</a:t>
            </a: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Arial Unicode MS"/>
              </a:rPr>
              <a:t>војника са тешким стрелним повредама лица и вилица, а 90 процената повреда било је са</a:t>
            </a: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Arial Unicode MS"/>
              </a:rPr>
              <a:t>коминутивним преломима вилица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 Unicode MS"/>
              </a:rPr>
              <a:t>Све до тада, и у свету и код нас, рањенике са повредама лица и вилица обра</a:t>
            </a: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ђ</a:t>
            </a:r>
            <a:r>
              <a:rPr b="0" lang="en-GB" sz="2600" spc="-1" strike="noStrike">
                <a:solidFill>
                  <a:srgbClr val="ffffff"/>
                </a:solidFill>
                <a:latin typeface="Arial Unicode MS"/>
              </a:rPr>
              <a:t>ивали су</a:t>
            </a: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Arial Unicode MS"/>
              </a:rPr>
              <a:t>хирурзи и није у правом смислу ре</a:t>
            </a: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ч</a:t>
            </a:r>
            <a:r>
              <a:rPr b="0" lang="en-GB" sz="2600" spc="-1" strike="noStrike">
                <a:solidFill>
                  <a:srgbClr val="ffffff"/>
                </a:solidFill>
                <a:latin typeface="Arial Unicode MS"/>
              </a:rPr>
              <a:t>и постојала специјалисти</a:t>
            </a: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ч</a:t>
            </a:r>
            <a:r>
              <a:rPr b="0" lang="en-GB" sz="2600" spc="-1" strike="noStrike">
                <a:solidFill>
                  <a:srgbClr val="ffffff"/>
                </a:solidFill>
                <a:latin typeface="Arial Unicode MS"/>
              </a:rPr>
              <a:t>ка обрада и терапија ових повреда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 Unicode MS"/>
              </a:rPr>
              <a:t>Због тога су резултати ле</a:t>
            </a: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ч</a:t>
            </a:r>
            <a:r>
              <a:rPr b="0" lang="en-GB" sz="2600" spc="-1" strike="noStrike">
                <a:solidFill>
                  <a:srgbClr val="ffffff"/>
                </a:solidFill>
                <a:latin typeface="Arial Unicode MS"/>
              </a:rPr>
              <a:t>ења били врло лоши, услед велике смртности, </a:t>
            </a: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д</a:t>
            </a:r>
            <a:r>
              <a:rPr b="0" lang="en-GB" sz="2600" spc="-1" strike="noStrike">
                <a:solidFill>
                  <a:srgbClr val="ffffff"/>
                </a:solidFill>
                <a:latin typeface="Arial Unicode MS"/>
              </a:rPr>
              <a:t>еформитета и инвалидитета</a:t>
            </a: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Arial Unicode MS"/>
              </a:rPr>
              <a:t>болесника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Стоматологија 20.век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Имају</a:t>
            </a: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ћ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и у виду </a:t>
            </a: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ч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ињеницу да рана и одговарају</a:t>
            </a: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ћ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а имобилизација прелома вилица</a:t>
            </a: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представља важну карику у ле</a:t>
            </a: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ч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ењу повреда лица и вилица, Пуљо је дошао на идеју остваривања</a:t>
            </a: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тенденције да се удружи стоматолошка хируршка обрада прелома лица и вилица први пут за време</a:t>
            </a: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Балканских ратова и то у српској војсци. Због тога су формирани посебни тимови за обраду</a:t>
            </a: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максилофацијалних повреда, састављени од хирурга и стоматолога. Такве тимови имали су током Првог светског рата (1914-1918) све зара</a:t>
            </a: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ћ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ене стране. На</a:t>
            </a: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пример, амери</a:t>
            </a: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ч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ки експедициони корпус у Европи током 1917. године имао је 74 тима са по два</a:t>
            </a: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хирурга и стоматолога у установама за максилофацијалну хирургију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Unicode MS"/>
              </a:rPr>
              <a:t>Стоматологија 20.век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Сматрао је да "код ле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ч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ења прелома вилица мора да иде рад зубног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лекара и рад хирурга упоредо. Хирург сам не може успешно ле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ч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ти преломе вилица, а исто тако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ни сам зубни лекар, ако није хируршки изображен". Бројни радови Атанасија Пуље објављени пре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и после ових изазвали су живо интересовање у светским нау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ч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ним круговима. Постављају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ћ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и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принцип упоредне хируршко-протетске обраде повреда максилофацијалног предела, његови радови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су послужили доцније многим стру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ч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њацима у свету као основ за даљи развој стоматолошке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науке у овој обла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Својим самопрегорним радом за време Балканских ратове (1912-1913) Пуљо је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заузео пионирско место у развоју наше стоматологије, а посебно ратне трауматологије повреда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лица и вилица. Може се с правом ре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ћ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и да је дао оригиналан допринос наше медицине светској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медицинској науци,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ч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етири године пре других нау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ч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ника у свету. Проу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ч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авањем његовог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свеобухватног рада, од југословенских универзитетских професора, бавили су се: истори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ч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ар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медицине др Вера Гавриловиц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ћ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и максилофацијални хирург др Антоније Шкокље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Unicode MS"/>
              </a:rPr>
              <a:t>Стоматологија 20.век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Атанасије Пуљо ро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ђ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ен је у Земуну 1878. године. Медицину је завршио у Грацу 1901,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а специјализацију из стоматологије у Паризу 1904. На повратку из Француске ради као приватни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зубни лекар у Земуну. Објавом Балканских ратова ступа у војну службу и у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ествује у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ратовима за ослобо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ђ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ење Србије (1912-1918). После рата (1918-1922) је у Француској где га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Французи због изузетне стру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ности желе да задрже на Факултету у Ници. Ме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ђ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утим, он се вра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ћ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а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у Београд да помогне свом напа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ћ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еном народу. Тако 1923. године оснива Стоматолошко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одељење Опште државне болнице, где добија известан број кревета и за збрињавање тешких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максилофацијалних болесни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 Unicode MS"/>
              </a:rPr>
              <a:t>Стоматологија 20.век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 Unicode MS"/>
              </a:rPr>
              <a:t>Исте године објављује стру</a:t>
            </a: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ч</a:t>
            </a:r>
            <a:r>
              <a:rPr b="0" lang="en-GB" sz="2600" spc="-1" strike="noStrike">
                <a:solidFill>
                  <a:srgbClr val="ffffff"/>
                </a:solidFill>
                <a:latin typeface="Arial Unicode MS"/>
              </a:rPr>
              <a:t>ну књигу "Нега зуба", на 160 страна, илустровану са 32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 Unicode MS"/>
              </a:rPr>
              <a:t>слике. Књига садржи 28 поглавља из свих грана стоматологије, а по</a:t>
            </a: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ч</a:t>
            </a:r>
            <a:r>
              <a:rPr b="0" lang="en-GB" sz="2600" spc="-1" strike="noStrike">
                <a:solidFill>
                  <a:srgbClr val="ffffff"/>
                </a:solidFill>
                <a:latin typeface="Arial Unicode MS"/>
              </a:rPr>
              <a:t>иње ре</a:t>
            </a: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ч</a:t>
            </a:r>
            <a:r>
              <a:rPr b="0" lang="en-GB" sz="2600" spc="-1" strike="noStrike">
                <a:solidFill>
                  <a:srgbClr val="ffffff"/>
                </a:solidFill>
                <a:latin typeface="Arial Unicode MS"/>
              </a:rPr>
              <a:t>има: "Намера ми</a:t>
            </a: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Arial Unicode MS"/>
              </a:rPr>
              <a:t>је да у овој књизи јасно и сваком разумљиво изнесем од колике су важности и вредности добри</a:t>
            </a: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Arial Unicode MS"/>
              </a:rPr>
              <a:t>и здрави зуби; на који на</a:t>
            </a: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ч</a:t>
            </a:r>
            <a:r>
              <a:rPr b="0" lang="en-GB" sz="2600" spc="-1" strike="noStrike">
                <a:solidFill>
                  <a:srgbClr val="ffffff"/>
                </a:solidFill>
                <a:latin typeface="Arial Unicode MS"/>
              </a:rPr>
              <a:t>ин  их  </a:t>
            </a: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ч</a:t>
            </a:r>
            <a:r>
              <a:rPr b="0" lang="en-GB" sz="2600" spc="-1" strike="noStrike">
                <a:solidFill>
                  <a:srgbClr val="ffffff"/>
                </a:solidFill>
                <a:latin typeface="Arial Unicode MS"/>
              </a:rPr>
              <a:t>овек може са</a:t>
            </a: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ч</a:t>
            </a:r>
            <a:r>
              <a:rPr b="0" lang="en-GB" sz="2600" spc="-1" strike="noStrike">
                <a:solidFill>
                  <a:srgbClr val="ffffff"/>
                </a:solidFill>
                <a:latin typeface="Arial Unicode MS"/>
              </a:rPr>
              <a:t>увати и ако су покварени како опет до здравих</a:t>
            </a: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Arial Unicode MS"/>
              </a:rPr>
              <a:t>и добрих зуба може до</a:t>
            </a: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ћ</a:t>
            </a:r>
            <a:r>
              <a:rPr b="0" lang="en-GB" sz="2600" spc="-1" strike="noStrike">
                <a:solidFill>
                  <a:srgbClr val="ffffff"/>
                </a:solidFill>
                <a:latin typeface="Arial Unicode MS"/>
              </a:rPr>
              <a:t>и"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Unicode MS"/>
              </a:rPr>
              <a:t>Стоматологија 20.век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3352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Одонтостоматолошка клиника Медицинског факултета у Београду основана је 1936.године. Први управник А. Пуљо изабран је за професора на предмету 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Болести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уста и зуба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, који су слушали и полагали студенти пете године медицине. На њој су лекари опште медицине обављали специјалистички стаж, полагали специјалистички испит и стицали звање специјалисте за болести уста и зуба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Unicode MS"/>
              </a:rPr>
              <a:t>Стоматологија 20.век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0948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Залагањем београдских лекара стоматолога, чланова Српског лекарског друштва, 1933.године основана је Стоматолошка секција, прва специјалистичка секција у оквиру СЛД-а. М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ђ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у четрдесет лекара стоматолога који су присуствовали оснивању, за председника Секције изабран је В. Кујунџић, зубни лекар из Београ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Unicode MS"/>
              </a:rPr>
              <a:t>Зубна медицин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33160" y="11430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Готово кроз цео Стари век зубна медицина била је део медицине и развијала заједно са њом; Средњи век је одбацио на маргину медицинских збивања, била је само вештина у рукама бербера и путујућих дентатора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Реформа анатомије и хирургије, а првенствено утицај А. Пареа чине да у периоду ренесансе поново добија на значају. У 18.</a:t>
            </a: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веку успева  да стекне независност и утврди свој сопствени пут, захваљујући П. Фошару, хирургу дентисти, изузетном практичару, писцу двотомног дела од преко 900 страница, који је одваја  од хирургије и усмерава даље под именом </a:t>
            </a:r>
            <a:r>
              <a:rPr b="1" i="1" lang="en-GB" sz="2200" spc="-1" strike="noStrike">
                <a:solidFill>
                  <a:srgbClr val="ffffff"/>
                </a:solidFill>
                <a:latin typeface="Arial Unicode MS"/>
              </a:rPr>
              <a:t>одонтологија</a:t>
            </a:r>
            <a:r>
              <a:rPr b="1" lang="en-GB" sz="2200" spc="-1" strike="noStrike">
                <a:solidFill>
                  <a:srgbClr val="ffffff"/>
                </a:solidFill>
                <a:latin typeface="Arial Unicode MS"/>
              </a:rPr>
              <a:t>.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Открића која су следила (усавршавање инструмената, појава зубних машина, нови лекови и материјали, прве научне теорије о каријесу) учинила су да за непуних сто година одонтологија прерасте у стоматологију. Термин </a:t>
            </a:r>
            <a:r>
              <a:rPr b="1" i="1" lang="en-GB" sz="2200" spc="-1" strike="noStrike">
                <a:solidFill>
                  <a:srgbClr val="ffffff"/>
                </a:solidFill>
                <a:latin typeface="Arial Unicode MS"/>
              </a:rPr>
              <a:t>стоматологија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први пут се помиње у Француској, (1868.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Стоматологија 20.век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60000"/>
              </a:lnSpc>
              <a:spcBef>
                <a:spcPts val="57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У Београду је после II светског рата 1945-1952. године радило само 108 зубних лекара. При оваквом стању, у овој области медицинске науке, морало се тражити хитно решење овог, заиста, горућег проблема. Сматрало се да стоматолошки факултети треба да изграђују стручњаке-здравствене радника који би, поред општег медицинског образовања, савладали савремену стоматолошку материју, кроз теоријску и практичну наставу, како би се оспособили да самостално делују на овом пољу науке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60000"/>
              </a:lnSpc>
              <a:spcBef>
                <a:spcPts val="57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Из тих разлога Влада Народне Републике Србије, на основу чл. 79. донела је Уредбу о оснивању Стоматолошког факултета Универзитета у Београду. Акт су потписали председник Владе НРС др Благоје Нешковић и министар Владе НРС председник Комитета за научне установе, Универзитет и високе школе НРС Милка Минић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60000"/>
              </a:lnSpc>
              <a:spcBef>
                <a:spcPts val="57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Школске 1948/49. годину Стоматолошки факултет почиње са рад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ДАНАС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169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ТОМАТОЛОШКИ ФАКУЛТЕТ УНИВЕРЗИТЕТА У БЕОГРАД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169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ЕДИЦИНСКИ ФАКУЛТЕТ УНИВЕРЗИТЕТА У НОВОМ САД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нтегрисане академске студије СТОМАТОЛОГИЈ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169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ФАКУЛТЕТ МЕДИЦИНСКИХ НАУКА УНИВЕРЗИТЕТА У КРАГУЈЕВЦ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нтегрисане академске студије СТОМАТОЛОГ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169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ЕДИЦИНСКИ ФАКУЛТЕТ УНИВЕРЗИТЕТА У НИШ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нтегрисане академске студије СТОМАТОЛОГ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Стоматолошка здравствена заштит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имар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екундар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ерцијарни ниво здравствене заштит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дравствене установ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дро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пре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сто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 Unicode MS"/>
              </a:rPr>
              <a:t>Зубна медицина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Данас је стоматологија наука која се бави проучавањем свих ткива и органа усне дупље, њиховим обољењима,  аномалијама и повредама као и начинима њиховог лечења и рехабилитациј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Стари називи зубна медицина, зубно лекарство, одонтологија, готово заборављени, имају само историјско значењ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Зуби су одувек представљали симбол снаге, здравља и лепоте, те им се посвећивала   велика пажња и приписивала значајна улога још од најранијих време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Жеља човека да сачува здраве и излечи болесне зубе природна је и води порекло из исконске потребе за самоодржањем и опстанк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 Unicode MS"/>
              </a:rPr>
              <a:t>Почеци зубне медицине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Територија Балканског полуострва, на коју ће се Срби, словенско племе населити и створити своје државе, била је настањена од давних времен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Када су из своје прадомовине иза Карпата,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у 5. и  6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веку населили римске провинције на Балкану, опустошене епидемијама и ратовима собом су донели своје насл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ђ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е и искуство и своју самониклу медицину и зубну медицину. Осим веровања у различите разумне узроке болести задржавају  и схватање о њеној демонистичкој природи. Познају својства многих лековитих биљака које примењују у лечењу оболелих уста и зуба (дивља ружа, глог, пелин). Поломљене виличне кости лече кором шумског дрвећа, храста или врбе, да рана зацели и бол нестан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Затекавши релативно развијену византијску зубну медицину прихватају је, прво у непосредним контактима, а касније преко писаних терапијских зборника (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Спис о зубобољи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Н. Продроменоса, 10.век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 Unicode MS"/>
              </a:rPr>
              <a:t>Почеци зубне медицине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6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Почетком 12.века долази до развоја српске државе и културе и оснивања манастира и манастирских болница. Манастири су центри културе и писмености, али и места у којима се проучава медицина. Калу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ђ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ери, ретки писмени људи тога доба, преводе и преписују старе медицинске рукописе, чувају их од заборава а истовремено се едукују да помажу и лече. Нажалост, већина превода је уништена у вековима турске владавине, али неколико сачуваних медицинских рукописа представљају највредније документе наше медицинске прошлости. Писани старословенском рецензијом они осим лечења различитих болести организма говоре и о лечењу обољења уста и зуба. По значају издвајамо два списа: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Хиландарски медицински кодекс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(12-15 век) и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Ходошки зборник ( 15.век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6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Поцечи зубне медицине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57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 Unicode MS"/>
              </a:rPr>
              <a:t>У Хиландарском медицинском кодексу Н 517 поглавље “О лечењу зубне болести” говори о следећем: зубобоља, оток образа, непријатан задах из уста, крварење десни, расклаћени зуби, испуцале усне, промене на језику. У терапији се не помињу оперативни захвати ни екстракција зуба, већ саветује примена лековитог биља и супстанци биљног, животињског и минералног порекла. Препоручује се фумигација мирисним травама, метода често примењивана у европској средњевековној зубној медицини. Многе лекове помињане у Кодексу савремена фармакологија више не користи, али се неки срећу у народној зубној  медицини. Упутство за бељење зуба и чишћење дорзалне површине језика наговештава познавање значаја оралне хигијене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70000"/>
              </a:lnSpc>
              <a:spcBef>
                <a:spcPts val="57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Unicode MS"/>
              </a:rPr>
              <a:t>Почеци зубне медицине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57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GB" sz="2300" spc="-1" strike="noStrike">
                <a:solidFill>
                  <a:srgbClr val="ffffff"/>
                </a:solidFill>
                <a:latin typeface="Tahoma"/>
              </a:rPr>
              <a:t>Ходошки зборник” настао крајем 15.века садржи поглавља: Бол зуба, Задах из уста, Оток усана, језика, десни, Како створити беле зубе. Дата су упутства за лечење наведених обољења, која су примерена времену у коме су настала. За лечење зубобоље помаже прах јеленског рога који ће “исцелити болестан зуб ако се сваке вечери у њега ставља”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70000"/>
              </a:lnSpc>
              <a:spcBef>
                <a:spcPts val="57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</a:rPr>
              <a:t>У 12. веку европска средњевековна медицина се раздваја на интерну медицину и хирургију. Учени лекари, физикуси, лече унутрашње болести,  док мануелне захвате избегавају и препуштају хирурзима. Овоме је допринело схватање да је сваки мануелни рад  недостојан учених лекара, као и забрана цркве да лекари, у то време искључиво клерици, обављају хируршке захвате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70000"/>
              </a:lnSpc>
              <a:spcBef>
                <a:spcPts val="57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 Unicode MS"/>
              </a:rPr>
              <a:t>Почеци зубне медицине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320" y="16765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 Unicode MS"/>
              </a:rPr>
              <a:t>Хирурзи, пак, захвате у устима сматрају мање вредним, те зубна медицина доспева у руке бербера, путујућих “чупача зуба” па чак и вашарских шарлатана. Они зубне интервенције изводе као атракцију, пред радозналом гомилом, уз музику и бубњеве. Зубна медицина никада није била у тако ниском положају. Непознавање хигијене, слаб квалитет исхране и честе епидемије само су погоршавале ситуацију. Хроничари описују стање уста и зуба становника средњевековне Европе као изузетно лоше. Безуби су били и властела, чак и краљеви</a:t>
            </a: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.</a:t>
            </a:r>
            <a:r>
              <a:rPr b="0" lang="en-GB" sz="2600" spc="-1" strike="noStrike">
                <a:solidFill>
                  <a:srgbClr val="ffffff"/>
                </a:solidFill>
                <a:latin typeface="Arial Unicode MS"/>
              </a:rPr>
              <a:t> Тако је у средњем веку зубна медицина постала само мали и споредни део хирургије, занемарена и заостала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21:44:08Z</dcterms:created>
  <dc:creator>home</dc:creator>
  <dc:description/>
  <dc:language>en-US</dc:language>
  <cp:lastModifiedBy>Mirjana Petrovic</cp:lastModifiedBy>
  <dcterms:modified xsi:type="dcterms:W3CDTF">2020-02-13T19:32:43Z</dcterms:modified>
  <cp:revision>81</cp:revision>
  <dc:subject/>
  <dc:title>Pripremili:  Suzana nedeljkovic 22/2010b  miona sekulic 06/2010b  andreja milovanovic 09/2010B</dc:title>
</cp:coreProperties>
</file>